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AAE3-1433-4942-98CC-8F4B3BAC71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&#1055;&#1088;&#1080;&#1083;&#1086;&#1078;&#1077;&#1085;&#1080;&#1077;&#8470;1%20&#1090;&#1077;&#1089;&#1090;.doc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Тема урока: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 «Электроотрицательность химических  элементов»</a:t>
            </a:r>
            <a:br>
              <a:rPr sz="1200"/>
            </a:b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140da3"/>
                </a:solidFill>
                <a:latin typeface="Arial"/>
              </a:rPr>
              <a:t>Бостан Юлия Викторовна, </a:t>
            </a:r>
            <a:br>
              <a:rPr sz="1000"/>
            </a:br>
            <a:r>
              <a:rPr b="0" lang="ru-RU" sz="1000" spc="-1" strike="noStrike">
                <a:solidFill>
                  <a:srgbClr val="140da3"/>
                </a:solidFill>
                <a:latin typeface="Arial"/>
              </a:rPr>
              <a:t>учитель химии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Статья отнесена к разделу: Преподавание хими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7C3F-8E78-46D2-9324-0CF469B1C1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041A-65F2-47FD-AC95-0765A78445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Физмину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B73C-4C10-4B5F-B233-6166B26F13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E2F8-21F6-4D88-B401-2960C4510B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1.Выполните зад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Расположите   химические  знаки перечисленных ниже  элементов в порядке возрастания значений  электроотрицательности:  Магний, натрий,  хлор,  сера, кислород, цезий, бор, калий, азот, бериллий, литий,фтор. Подчеркните  элементы  с  наименьшей и наибольшей электроотрица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CA0C-3A23-4E5F-810F-3BC1D65164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ие элементы  в порядке возрастания значений  электроотрица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09CC-4EB1-4BCD-B731-EB7C4C380E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ыпишите  чему  равна электроотрицательность лит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У какого элемен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самая  наименьшая электроотрицатель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Наибольшую  степень электроотрицательности имеет элемен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Какие  значения электроотрицательности  имеют  металл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Какие  значения электроотрицательности  имеют  неметалл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62AE-A72F-4954-BAF7-F6438280E8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амая  наименьшая элемен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</a:t>
            </a:r>
            <a:r>
              <a:rPr b="0" lang="en-US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Cs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-0,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аибольшую  степень электроотрицательности   - </a:t>
            </a:r>
            <a:r>
              <a:rPr b="0" lang="en-US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F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 -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.Металлы имеют электроотрицательность  -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меньше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5.Неметаллы имеют электроотрицательность - 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больше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16C3-630A-4C09-ABB2-CD7461CB66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иведенных  ниже  формула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черкните атомы  наиболее электроотрицательного  химического  элемента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E859-CC29-4F63-96BD-AA1F8CD197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иболее электроотрицатель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химичес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элемен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в соединен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S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DD05-B596-44B4-AB93-4C1629BE35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40da3"/>
                </a:solidFill>
                <a:uFillTx/>
                <a:latin typeface="Arial"/>
              </a:rPr>
              <a:t>Цель урока</a:t>
            </a: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Знат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лектроотрица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Умет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вать электроотрицательность химических  элементов    в  сложных  веществ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DDA4-8903-4890-BC1A-2FACACB812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Дополните фразу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ыло интерес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смог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е захотелось…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9B1C-2B3C-4C59-ACFA-DACFEF94FE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ирование:_x000b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4023-5BCD-4340-B8D0-21A1C4D634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Работа  с терминолог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станови соответствие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амопровер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3, 2-5,  3-6, 4-2, 5-7, 6-4, 7-1.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 правильный ответ 1 балл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6B64-5F45-41EF-B20A-C571B29662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« </a:t>
            </a:r>
            <a:r>
              <a:rPr b="1" i="1" lang="ru-RU" sz="1200" spc="-1" strike="noStrike">
                <a:solidFill>
                  <a:srgbClr val="140da3"/>
                </a:solidFill>
                <a:latin typeface="Calibri"/>
              </a:rPr>
              <a:t>О каком понятии идет речь»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. ……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………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 ……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…………….     5. Ядра  атомов  состоят из ………и……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……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1930-F95C-4950-98E2-9929A48567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 каком понятии идет речь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 - 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изотопа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,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химический  элемен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-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а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–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ядр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Ядра  атомов  состоят из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- протонов и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– 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5E0E-23B0-40AA-A63A-C850604765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Изучение нов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B9A0-EE5B-4ED5-84CA-3339970090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понятие об электроотрицательности атомов было введено американским химиком Л. Полин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046B-5046-4D05-A905-9AC63A2682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Работа с учебни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крыли учебник §40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текст на  стр. 12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A454-7DD4-4B16-9D2D-70E2A6CE56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21E-D17A-403B-95E5-21BCBB42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FF7-F9E3-4941-AA69-F0A99EF1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4922-D00D-4D54-B928-9EDC3D6E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B533-6DA1-4EAC-A59F-72B0BDAC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5BB9-CDB8-40FF-B827-80F2E6B7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A546-4B3F-4A9D-A7E4-BF5543D7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60A-A6A4-4EC1-90C4-58CAD1A3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D6F0-950D-4D67-9084-0C356A43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12E0-5D58-4494-8F97-7888EAC9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38A-7FDE-47F9-9CCE-702D3F6B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29B0-5C0B-4132-B1A7-DCA543C7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362-28AC-471D-BF11-CCB23415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6646-A5A9-4066-A376-544990A0E32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D3AD-4479-441E-9011-A5B5AD59C9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&#1055;&#1088;&#1080;&#1083;&#1086;&#1078;&#1077;&#1085;&#1080;&#1077;&#8470;1%20&#1090;&#1077;&#1089;&#109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140da3"/>
                </a:solidFill>
                <a:latin typeface="Arial"/>
              </a:rPr>
              <a:t>Тема урока:</a:t>
            </a:r>
            <a:r>
              <a:rPr b="0" lang="ru-RU" sz="4300" spc="-1" strike="noStrike">
                <a:solidFill>
                  <a:srgbClr val="140da3"/>
                </a:solidFill>
                <a:latin typeface="Calibri"/>
              </a:rPr>
              <a:t> «Электроотрицательность химических  элементов»</a:t>
            </a:r>
            <a:br>
              <a:rPr sz="4300"/>
            </a:br>
            <a:r>
              <a:rPr b="0" lang="ru-RU" sz="4900" spc="-1" strike="noStrike">
                <a:solidFill>
                  <a:srgbClr val="140da3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140da3"/>
                </a:solidFill>
                <a:latin typeface="Arial"/>
              </a:rPr>
              <a:t>Бостан Юлия Викторовна, </a:t>
            </a:r>
            <a:br>
              <a:rPr sz="2900"/>
            </a:br>
            <a:r>
              <a:rPr b="0" lang="ru-RU" sz="2900" spc="-1" strike="noStrike">
                <a:solidFill>
                  <a:srgbClr val="140da3"/>
                </a:solidFill>
                <a:latin typeface="Arial"/>
              </a:rPr>
              <a:t>учитель химии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Статья отнесена к разделу: Преподавание хим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250920" y="98748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Как изменяются металлические и неметаллические  свойства в периоде, в групп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Какие элементы обладают сильными металлическими свойствам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Какие элементы обладают сильными  неметаллическими свойств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Что такое электроотрицательность?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(выписать в словарь)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40da3"/>
                </a:solidFill>
                <a:uFillTx/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kidsoftheworld2"/>
          <p:cNvPicPr/>
          <p:nvPr/>
        </p:nvPicPr>
        <p:blipFill>
          <a:blip r:embed="rId1"/>
          <a:stretch/>
        </p:blipFill>
        <p:spPr>
          <a:xfrm>
            <a:off x="539640" y="4869000"/>
            <a:ext cx="7920000" cy="11048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324000" y="1342800"/>
            <a:ext cx="88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мотрите  схему №19.Обсудите  вопросы в группе (устно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ми  свойствами  обладают химические элементы в  начале  период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ми  свойствами  обладают химические элементы в  середине пери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ми  свойствами  обладают химические элементы в  конце  пери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640720" cy="63817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539640" y="91476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1.Выполните задан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Расположите   химические  знаки перечисленных ниже  элементов в порядке возрастания значений  электроотрицательности:  Магний, натрий,  хлор,  сера, кислород, цезий, бор, калий, азот, бериллий, литий,фтор. Подчеркните  элементы  с  наименьшей и наибольшей электроотрицательность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532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ие элементы  в порядке возрастания значений  электроотрицатель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395280" y="164088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Mg -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Na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0,9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l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,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,5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O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3,5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0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B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2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Be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,5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-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 flipV="1" rot="10800000">
            <a:off x="825120" y="5201280"/>
            <a:ext cx="72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Cs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Na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Mg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Be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B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S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Cl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O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F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324000" y="42480"/>
            <a:ext cx="8351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ыпишите  чему  равна электроотрицательность лит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У какого элемен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самая  наименьшая электроотрицатель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Наибольшую  степень электроотрицательности имеет элемен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.Какие  значения электроотрицательности  имеют  метал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6.Какие  значения электроотрицательности  имеют  неметал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468360" y="549360"/>
            <a:ext cx="44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250920" y="1125360"/>
            <a:ext cx="849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амая  наименьшая элемен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Cs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-0,7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аибольшую  степень электроотрицательности   -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F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-4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5.Металлы имеют электроотрицательность  -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меньше 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5.Неметаллы имеют электроотрицательность - 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больше 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468360" y="660240"/>
            <a:ext cx="820728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иведенных  ниже  формула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черкните атомы  наиболее электроотрицательного  химического  элемента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324000" y="778680"/>
            <a:ext cx="820728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иболее электроотрицатель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химичес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элемен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в соединен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S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40da3"/>
                </a:solidFill>
                <a:uFillTx/>
                <a:latin typeface="Arial"/>
              </a:rPr>
              <a:t>Цель урока</a:t>
            </a:r>
            <a:r>
              <a:rPr b="0" lang="ru-RU" sz="3600" spc="-1" strike="noStrike">
                <a:solidFill>
                  <a:srgbClr val="140da3"/>
                </a:solidFill>
                <a:latin typeface="Arial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40da3"/>
                </a:solidFill>
                <a:latin typeface="Calibri"/>
              </a:rPr>
              <a:t>Знать: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такое электроотрицательность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140da3"/>
                </a:solidFill>
                <a:latin typeface="Calibri"/>
              </a:rPr>
              <a:t>Уметь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авнивать электроотрицательность химических  элементов    в  сложных  вещества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468360" y="551520"/>
            <a:ext cx="7991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Дополните фразу</a:t>
            </a:r>
            <a:r>
              <a:rPr b="0" lang="ru-RU" sz="2800" spc="-1" strike="noStrike">
                <a:solidFill>
                  <a:srgbClr val="140da3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смог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е захотелось…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95280" y="2894040"/>
            <a:ext cx="83534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39640" y="33336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ирование:_x000b_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 flipV="1" rot="10800000">
            <a:off x="1619280" y="47041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0da3"/>
                </a:solidFill>
                <a:latin typeface="Calibri"/>
              </a:rPr>
              <a:t>Работа  с терминологи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«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Установи соответствие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Самопроверка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-3, 2-5,  3-6, 4-2, 5-7, 6-4, 7-1.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правильный ответ 1 бал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« </a:t>
            </a:r>
            <a:r>
              <a:rPr b="1" i="1" lang="ru-RU" sz="2800" spc="-1" strike="noStrike">
                <a:solidFill>
                  <a:srgbClr val="140da3"/>
                </a:solidFill>
                <a:latin typeface="Calibri"/>
              </a:rPr>
              <a:t>О каком понятии идет речь»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. …….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………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 ……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…………….     5. Ядра  атомов  состоят из ………и……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……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 каком понятии идет речь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 - 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изотопам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,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химический  элемен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-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ат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–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ядр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Ядра  атомов  состоят из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- протонов и нейтрон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– электро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Изучение нов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619280" y="1557360"/>
            <a:ext cx="6408720" cy="55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НС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ременное понятие об электроотрицательности атомов было введено американским химиком Л. Полинг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2916000" cy="45262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0da3"/>
                </a:solidFill>
                <a:latin typeface="Calibri"/>
              </a:rPr>
              <a:t>Работа с учебником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Открыли учебник §40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итать текст на  стр. 121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1:36:17Z</dcterms:created>
  <dc:creator>1</dc:creator>
  <dc:description/>
  <dc:language>en-US</dc:language>
  <cp:lastModifiedBy>LEGION</cp:lastModifiedBy>
  <dcterms:modified xsi:type="dcterms:W3CDTF">2015-05-01T12:20:47Z</dcterms:modified>
  <cp:revision>35</cp:revision>
  <dc:subject/>
  <dc:title>Тема урока: «Электроотрицательность химических элементов» Бостан Юлия Викторовна, учитель химии</dc:title>
</cp:coreProperties>
</file>